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A0D1-9D89-440E-A7D1-3FF006BCBC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EB92-7AA1-4012-B594-9068ED0B49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872-B501-43CF-BF4F-682B75C0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436-18B0-4959-9CAC-4644DE79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E10-7837-42F8-A7A4-8E7A2278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1CED-DC7D-4193-B963-67B36DD3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E12D-9264-478B-9D41-C73D78EE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9E89-2F85-4694-9B22-9E6BA1B2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944-13EC-433F-961F-46F021CF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EA07-4F10-4223-BBC0-F205C2DD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BBE3-7ECB-4938-A68D-810224E2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8F9D-FBA3-47DF-8A63-EE96DC73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E90-A382-4D6E-9E35-E488970F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3FD1-A92C-43AE-8A1B-D1E9A5A3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A4D8-9069-4586-A032-9261867F7ED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храняемые растения Владимирской области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Урок биолог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6 клас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Учитель: Колесова Е.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МОУ «СОШ № 6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г. Кольчугино Владимирской обл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Ятрышник шлемонос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Ятрышник шлемоносный (Orchis militaris) — многолетнее травянистое растение, «дальний родственник» экзотической орхидеи. Растение достигает в высоту 20—45 см. Ланцетные стеблеобъемлющие листья красиво оттеняют лиловые (или розовато-фиолетовые) кисти душистых цветов, достигающие порой 10 см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Картинка 2 из 110"/>
          <p:cNvPicPr/>
          <p:nvPr/>
        </p:nvPicPr>
        <p:blipFill>
          <a:blip r:embed="rId1"/>
          <a:stretch/>
        </p:blipFill>
        <p:spPr>
          <a:xfrm>
            <a:off x="500040" y="1357200"/>
            <a:ext cx="32576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нерин башмач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http://live.1001chudo.ru/pic/full/fbruehlmeier.info.jpg"/>
          <p:cNvPicPr/>
          <p:nvPr/>
        </p:nvPicPr>
        <p:blipFill>
          <a:blip r:embed="rId1"/>
          <a:stretch/>
        </p:blipFill>
        <p:spPr>
          <a:xfrm>
            <a:off x="4857840" y="1214280"/>
            <a:ext cx="4049640" cy="49532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214200" y="85716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зде, где растет венерин башмачок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pripedium calceolu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это цветок охраняемый и редкий. Башмачок собирается в небольшие группы, выбирает слабоосвещенные места, растет среди мхов и трав в тени деревьев или на обрывах рек и оврагов. Удивительно, но первый раз зацветает башмачок после пятнадцатого года жизни! Да и дальше может надолго уходить под землю, существуя в симбиозе со специальными грибами. Плохо конкурирующий с другими растениями башмачок обзавелся единственным средством защиты – едким и ядовитым соком. Его поэтому обходят травоядные. Для человека башмачок безопасен, даже используется как лекарственное средство, а пахнет этот необычный лесной цветок – вани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Любка зеленоцветков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4071960" y="12859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Любка зеленоцветковая (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Platanthera chlorantha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) очень похожа на  любку двулистную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(Platanthera bifolia),  имеет много народных имён.. Растёт любка в смешанных и лиственных лесах, на редколесьях, среди кустарников. Любка зеленоцветковая - многолетнее травянистое растение высотой 30-60 см. Цветки почти без запаха, зеленовато-белого цвет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latanthera chlorantha 1.JPG"/>
          <p:cNvPicPr/>
          <p:nvPr/>
        </p:nvPicPr>
        <p:blipFill>
          <a:blip r:embed="rId1"/>
          <a:stretch/>
        </p:blipFill>
        <p:spPr>
          <a:xfrm>
            <a:off x="217440" y="1523880"/>
            <a:ext cx="33544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Кувшинка чисто-бел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0" y="457200"/>
            <a:ext cx="87868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Народные названия: одолень-трава, плывучник, русалочий цветок или русалкин цвет, водяная маковка или мак водяной, водяной цвет, белая водяная лилия. Кувшинка бела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Это многолетнее травянист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растение, в высо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вырастающее до полу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двух с половиной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Нимфея — сказо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красивый цветок, котор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знаком нам всем с дет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Кто из нас не помн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застывшие на водной гл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овальные листь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напоминающие по фор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сердце, выходящи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длинных черешках из-п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толщи воды?! Но глав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украшением нимфеи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является прелестный цветок — крупный, с множеством продолговатых белых или розоватых лепестков. Свое название цветок получил благодаря форме плода, похожего на кувшинчик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Кувшинка белая"/>
          <p:cNvPicPr/>
          <p:nvPr/>
        </p:nvPicPr>
        <p:blipFill>
          <a:blip r:embed="rId1"/>
          <a:stretch/>
        </p:blipFill>
        <p:spPr>
          <a:xfrm>
            <a:off x="3492360" y="1413000"/>
            <a:ext cx="5651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Колокольч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480" y="1071720"/>
            <a:ext cx="864396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На территории Владимирской области взято под охрану 3 вида колокольч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    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Бубенчик                                 Колокольчик                             Колокольч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лилиелистный                       жестковолосистый                    широколист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Картинка 7 из 67"/>
          <p:cNvPicPr/>
          <p:nvPr/>
        </p:nvPicPr>
        <p:blipFill>
          <a:blip r:embed="rId1"/>
          <a:stretch/>
        </p:blipFill>
        <p:spPr>
          <a:xfrm>
            <a:off x="179280" y="2708280"/>
            <a:ext cx="2857680" cy="3809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Картинка 2 из 35"/>
          <p:cNvPicPr/>
          <p:nvPr/>
        </p:nvPicPr>
        <p:blipFill>
          <a:blip r:embed="rId2"/>
          <a:stretch/>
        </p:blipFill>
        <p:spPr>
          <a:xfrm>
            <a:off x="3276720" y="2781360"/>
            <a:ext cx="2820960" cy="3762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Картинка 15 из 294"/>
          <p:cNvPicPr/>
          <p:nvPr/>
        </p:nvPicPr>
        <p:blipFill>
          <a:blip r:embed="rId3"/>
          <a:stretch/>
        </p:blipFill>
        <p:spPr>
          <a:xfrm>
            <a:off x="6227640" y="2781360"/>
            <a:ext cx="270684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Плау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7120" y="6429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Это одни из  самых древних растений нашей области. Растут в лесах, часто на участках, покрытых зелеными мхами. Иногда они образуют изящный зеленый кове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Картинка 1 из 102"/>
          <p:cNvPicPr/>
          <p:nvPr/>
        </p:nvPicPr>
        <p:blipFill>
          <a:blip r:embed="rId1"/>
          <a:stretch/>
        </p:blipFill>
        <p:spPr>
          <a:xfrm>
            <a:off x="5143680" y="1357200"/>
            <a:ext cx="3284280" cy="492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Картинка 1 из 6"/>
          <p:cNvPicPr/>
          <p:nvPr/>
        </p:nvPicPr>
        <p:blipFill>
          <a:blip r:embed="rId2"/>
          <a:stretch/>
        </p:blipFill>
        <p:spPr>
          <a:xfrm>
            <a:off x="428760" y="2214720"/>
            <a:ext cx="4233600" cy="33382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5"/>
          <p:cNvSpPr/>
          <p:nvPr/>
        </p:nvSpPr>
        <p:spPr>
          <a:xfrm>
            <a:off x="5286240" y="6357960"/>
            <a:ext cx="30006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аранец обыкно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1071720" y="6072120"/>
            <a:ext cx="2652480" cy="223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лаун топя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Прострел раскрытый </a:t>
            </a:r>
            <a:br>
              <a:rPr sz="4000"/>
            </a:b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(сон – трава) - 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Pulsatill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428720" y="2214720"/>
            <a:ext cx="418644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Растет в разреженных сосновых лесах на песчаной сухой почве, опушках и просеках.  В начале цветения у  сон – травы нет ни листьев, ни стебля, а только фиолетовый мохнатый венчик с еле заметной цветоножкой и пучком желтых тычинок посередине. По мере роста стебель вытягивается, и появляются листь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Картинка 6 из 218"/>
          <p:cNvPicPr/>
          <p:nvPr/>
        </p:nvPicPr>
        <p:blipFill>
          <a:blip r:embed="rId1"/>
          <a:stretch/>
        </p:blipFill>
        <p:spPr>
          <a:xfrm>
            <a:off x="428760" y="1706400"/>
            <a:ext cx="342900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Печеночница благородная- 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Hepática nóbilis</a:t>
            </a: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85840" y="1571760"/>
            <a:ext cx="39434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Встречается в сыры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лесах, особенно по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орешником. Е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разводят в сада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как декоратив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растение. Ранн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весной появляют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красивые одиноч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цветки с синим, иног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розовы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околоцветник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Листья трехлопастны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голые, с характерн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пятнистостью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Картинка 3 из 88"/>
          <p:cNvPicPr/>
          <p:nvPr/>
        </p:nvPicPr>
        <p:blipFill>
          <a:blip r:embed="rId1"/>
          <a:stretch/>
        </p:blipFill>
        <p:spPr>
          <a:xfrm>
            <a:off x="2857680" y="13572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Ирис сибирский (касатик, радужница)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-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Iris sibirica L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86320" y="1600200"/>
            <a:ext cx="28573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Растет на сырых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переувлажненных лугах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иногда встречается 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опушках.  Цветет в ма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–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июне. Родово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название  «ирис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произошло о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греческого слов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радуга». Оно дан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растению из – за яркой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переливающей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окраски цветк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img-fotki.yandex.ru/get/26/irena-zhigora.a/0_15cad_9ba62323_XL"/>
          <p:cNvPicPr/>
          <p:nvPr/>
        </p:nvPicPr>
        <p:blipFill>
          <a:blip r:embed="rId1"/>
          <a:stretch/>
        </p:blipFill>
        <p:spPr>
          <a:xfrm>
            <a:off x="142920" y="1500120"/>
            <a:ext cx="61912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9:31:34Z</dcterms:created>
  <dc:creator>Admin</dc:creator>
  <dc:description/>
  <dc:language>en-US</dc:language>
  <cp:lastModifiedBy>Admin</cp:lastModifiedBy>
  <dcterms:modified xsi:type="dcterms:W3CDTF">2010-11-09T17:18:06Z</dcterms:modified>
  <cp:revision>18</cp:revision>
  <dc:subject/>
  <dc:title>Слайд 1</dc:title>
</cp:coreProperties>
</file>